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A876-86DD-4AA5-9963-E38F7103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D5F-B2FB-4E45-9CD6-ABB6AE78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BBBB-0D1F-4F8D-94B8-91DBE3D9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76DC-ADE2-49B5-A24E-5C7FD097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65FC-E610-4A86-AF62-91279CA1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F4E1-3381-4657-81D6-1851B575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17AC-0FAC-4266-B630-D1D512DC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FAE7-6548-44E2-91EF-A1AA2AAC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2B5-4FC3-46AF-B1F4-EF9AFDB1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D9DB-60ED-4158-9F0C-E581EDAA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E304-9118-4CD5-8B59-9965C231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722C-08DA-4A3C-ABBF-F2AB2EFE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0DEE-78E6-41AE-92E1-69D04FCF8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3924360" cy="5759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067280" y="907920"/>
            <a:ext cx="4825800" cy="439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Es sentido del momento histórico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es cambiar todo lo que debe s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cambiado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es igualdad y libertad plena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es ser tratado y tratar a los dem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como seres humano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es emanciparn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por nosotros mismos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con nuestros propios esfuerzos;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89440" y="119700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O DE REVOLU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8497800" cy="371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4000" y="476280"/>
            <a:ext cx="8424720" cy="23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es desafiar poderosas fuerzas dominantes dentro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fuera del ámbito social y nacional;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es defender valores en los que se cr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al precio de cualquier sacrificio; es modest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desinterés, altruismo, solidaridad y heroísm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337440" cy="35272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324000" y="3933720"/>
            <a:ext cx="8424720" cy="266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es luchar con audacia, inteligencia y realism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es no mentir jamás ni violar principios éti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es convicción profunda de que no existe fuer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en el mundo capaz de aplast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la fuerza de la verdad y las ide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6696000" cy="371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333360"/>
            <a:ext cx="8424720" cy="266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...revolución es unida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 independenc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 luchar por nuestros sueños de justicia para Cub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y para el mun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que es la base de nuestro patriotism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uestro socialis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y nuestro internacionalism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00:02:55Z</dcterms:created>
  <dc:creator>Admin</dc:creator>
  <dc:description/>
  <dc:language>en-US</dc:language>
  <cp:lastModifiedBy>Admin</cp:lastModifiedBy>
  <dcterms:modified xsi:type="dcterms:W3CDTF">2008-01-23T01:56:43Z</dcterms:modified>
  <cp:revision>6</cp:revision>
  <dc:subject/>
  <dc:title>Diapositiva 1</dc:title>
</cp:coreProperties>
</file>